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7ED-E8AD-478B-B934-5C4ED065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126-48C0-4DCB-B73D-0E19AC38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6A7A8-114E-496A-B33B-8427D6B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26D3-5AD7-48E7-8E57-CB452DB6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A4357-D245-4434-B97B-8050417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1543-361E-4ED1-8C79-269474C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D011-90F2-416B-B6FD-AEB8B54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F275-77CD-4885-B24C-7065E2C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BAD30-A055-44C8-917D-0CDDAE90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10844-4F8C-4919-86AD-E550CD8E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DA77B-7136-47F4-B540-C453ECCC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5120A-3F9A-41AA-94BC-0200CC5F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FDD-43E5-409C-B2CF-677845A5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47F8A-55EF-4356-96E4-B1168519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60147-A5E0-454C-A9A4-55F051D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768B6-0500-4D69-A450-49A12E3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4D51-300A-42D3-B0C9-5C025E28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ECB75-72C6-465A-8177-26D86D1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01DF3-F408-412E-B49B-8BAFB88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D4CB-2C49-4A45-AF60-84FF0E9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8CE6-336D-48C8-B089-76DE36B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2A43-1FB6-4011-9FED-EF36F274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F2968-1FF4-4010-856C-6C4D431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3F4-C087-4174-A49E-CF9A5814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E5CFA-8BE5-4FDE-934B-08214249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3E79-A9F5-43B8-BC04-3541EA0D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1A10F-2718-4683-891D-EEBF1788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5EAF-197F-40D5-9815-096E3F2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8FEC-C637-454B-9015-904D131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73FF-87D3-44C5-8F81-AAE808A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180D-46D1-43E9-8165-FEA94F1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AABB-0653-4B87-818F-0F2BF03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FD6F-978C-41EA-879D-AEB50E9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A3159-F43A-4435-8C53-208DFEF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5D1-798D-4203-97EE-7F656DC3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35B1E-F658-4370-9840-CFAF042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1EC70-C32E-4DAB-A67F-AA9EAA96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0034-CEDC-4AB9-B8FC-F2E6372C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8B91-9AD6-418E-9B80-B2709732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9BF78-FCBD-4470-A679-3BB3FAFA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6FE8B-9D81-4A1E-9DFD-55D1DDD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5286B-3036-4EA9-AC1D-614101B0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5825B-5A3C-42A4-8C69-434C365C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B689C-5865-4BFB-B1D2-1DA2563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3D90B-095D-419A-8B79-503CA4E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EC1-2C58-4CCA-948C-14A102E5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7FED3-537F-497C-B250-9C99AA0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39E8-C68E-4C33-8B62-02D218C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D562C-AF43-4667-B69D-5D907E8D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7CA1-1F6B-41E3-A044-DE858D44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DE968-7D4D-4AD2-9946-ED6886D2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7C976-ED6D-431F-9C16-AB16CC01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C184F-BA82-4E76-8404-7CD5E031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F2F75-D627-4152-B9A2-5D509B8C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31954-6158-4C82-8E58-9424D0D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FD8CA-83BD-4B9C-8C2E-1444EA9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55D-BA4E-44F2-ADD8-71A22F31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94374-86B6-4E38-B3BB-4BE861D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06F18-FCC0-4906-A95B-4B6C6BD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A5916-A450-4E5F-B0C3-69957D5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CCF5E-CFB3-4D4F-B2AC-7A10565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BDE42-9F2C-402A-BCEF-59AF3AA0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5E128-043B-4996-B2C4-829C815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6439A-56A3-444D-B252-AD2D1BBE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6E990-E280-46F6-BD11-79EFDECA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7E05E-E19D-4143-AB74-5A695B6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56CD4-533E-4BD3-80E9-DEFB146E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6EB-FBB9-4AAD-B1A5-435DB42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95D1E-EA69-4543-A390-431CE67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A794E-EBFD-4A76-8ED1-64A6C6A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FC497-5277-4563-962D-63F7B08D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E7E22-C356-420F-8891-0FC0A53E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3A053-9C69-46BC-B23C-8C4EB5D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04FC0-E01A-4CE8-8EEE-B0AAD6E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BFC89-AB71-43DA-B95D-E8A2DB2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317B8-707F-4249-BB6A-5836B8E2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03896-F914-4E8C-99BC-C4955477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A8FBF-FD73-42F3-8AED-B1E61DC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2570-CA07-45FA-8246-8E17DE47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F27C4-DC93-41C3-AB81-F74AB4C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D55C9-86F5-4E0E-B549-5773BDE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9E179-D584-4C56-89A3-1B0B0FD3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7A1C6-4F05-47F4-B7D9-0FF11BE6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8B3B5-9C10-4837-9C39-90D6130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23AC4-E773-4D74-BBF9-FD824F0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6351C-9974-4277-A9DA-87D7B4E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F9D3D-E42E-4B89-AD60-44CFA94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16968-40BD-46A2-9056-2A62F20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771B4-1887-4D52-9D3B-D84A0B66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A92-5887-450D-8D82-89C19260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ABA99-C902-4EE8-805D-3A165A48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8917E-79D1-448B-9107-E87430C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9291A-4971-4511-9DE7-741C7325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B2607-77A6-4B5D-8F3C-6693DA1F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5BF52-F209-42CC-A7D6-8EE78E40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591CE-B800-465C-9EED-EE14335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64A49-25BA-45F7-938F-F17A07F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C3E47-2EEC-4988-B324-C8FC984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C2C30-3474-40E1-825C-A15E44D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AB232-F80C-4E0E-A8A5-3ABF25A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624-0ED5-49C7-8E95-1C4E8FD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E3D75-7559-456C-91E5-654616B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86933-8F07-432F-870A-FD7D636E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EFF0C-4334-475A-B80A-08BC96A3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8EB33-6A43-4714-B926-7333380B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504A8-E863-4D9E-BA46-9F9D08C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650F3-17CE-4F61-8E8A-93C20E3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B94AB-73E4-43FB-8F90-94BC297D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5368E-E7D7-4B73-BEF3-9F8DC0B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3EDDA-8316-47DB-8ABB-0B66D650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D3D4B-1248-4CD2-A25F-E3F7410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BEC-099F-4D86-B122-D6274DCF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D18-6B1B-4BD8-8CE7-BDE29A7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74E4C-3127-48C6-8A81-28271AF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5D744-47E2-4947-AF3F-9026F2B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7E2AB-621B-4315-9765-E518AC3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4C3F3-D169-4E59-9A00-A104C59C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80BF1-D168-4E70-A95B-E537DB98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2CC39-0D15-4BEC-A870-AE024130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42754-56F2-45C8-A5CF-65481342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745AB-3A31-428F-B31C-8B921DC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8B46D-2AE8-4098-81B4-DD459555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E26C8-D92D-4E9E-BED7-F827E44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907-1613-4273-9135-AB35B67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BCE95-0A3B-4958-8505-B5B86246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50B9D-2DD7-4D9C-B025-BE75A78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8A185-DFA4-4D95-AAC2-502D998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C3E7E-FA63-4629-A0B2-FC139AB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89BFE-E3F2-4AEF-86C1-D42A780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482D4-CAC0-445B-806F-52648D3E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60BFA-0DD8-40F0-86A3-20282171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42FB5-A0D6-4F07-807C-100E029C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F4E96-11BA-4C3D-B56F-325E672B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E250E-9805-4931-A2EB-3F62879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2BA9-7272-4DD7-913D-6A7D7D5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BD302-51E1-46D4-A05A-A3CB3854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628E2-F78A-4524-977A-817C4CD4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2054C-C14C-4197-AE81-01086E2B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C43DE-872F-4CC8-B3D8-6C9A5BF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32D45-AFE7-4420-A123-BF16876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ADB15-D4B8-4E65-96AD-89E4AB7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94CDE-BBCA-43A4-A36A-DEA9373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767CE-6288-40D8-8614-AAFC6947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8B1B7-A7E4-4F86-929B-70C94A8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1C531-1E2E-44B7-ACB3-E9811B3A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D60-987B-4CB7-B9A8-B831A08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EE626-326E-4DD5-9B13-B412292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926FF-275E-473C-921A-CFC9025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35E66-F243-4127-A823-CC0B7BB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3DE00-E3DF-43F3-B66E-EF88FA2B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59388-8A63-4144-962F-27208F3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A8507-7965-4730-90BB-763A633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6516A-0CC2-411C-BA6D-C2F2F40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DDA92-7981-4C0C-A4C3-67C7561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13189-9F3F-4556-AB3C-82EF5AB7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4F79A-9DC5-439D-99AB-E318D59A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C823-A64C-4E83-87D9-873EFCF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FAD5E-3414-406E-B30B-0503B67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77317B-D648-4076-9D7D-E3943ED2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809E6-DE2C-43A9-BB2D-9916BDE9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BC9CF-2702-4D8A-B03F-639FEA1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3C008-C02D-4250-9280-F75966D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E1844-3159-47F1-89FF-E54B8A5A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43E6A-B01F-4AF5-9D9A-04E0BDC7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F0ACD-19F4-48EF-A462-8A45C4E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2EA15-EFB0-4B79-AD2E-F18F50D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10C29-B2AD-4149-9C5C-67AFD35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08FE-FDFB-48C7-9187-CC70F672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C160C-BCA4-40A2-9883-F344421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BF2A7-7722-4202-8C51-0CA510EC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F6F80-876A-44F3-BCDE-35E79A49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E206-C623-43D0-A9CE-6075C73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DC37-4AE3-4C23-9CF8-FDB19E5C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3E33-ED42-469A-A891-DBF9FAF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7D73-E8FC-4E2B-AE77-6BDB820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3D9-AB94-41AE-A3AB-F68BDE8A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93D3-3FAC-4ADB-907B-CB6569A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F11B-647C-46D5-94FE-FBE2848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9F80-3E9A-49D2-B1EB-C4B555F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32B2-984E-4B34-8E7A-57A99A3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CB51-42DC-47AE-BCED-9667CDBB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F117-0774-4338-98A4-FBECA82B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7937-C473-486A-9BA4-9BDBCC03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B1F9-2956-4247-9161-06C310C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FE70-1606-4157-ADF0-A9A39D9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9C64-A06F-4C6A-BB8B-839CBB2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22E-83D0-4340-95D6-EEB5186C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26A6-0C60-472C-8B2A-66D6650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68CE-F077-440C-91B8-428BC1C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3AB8-E627-40E8-B5CA-497B842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A42C-E668-4CFE-8054-2260E60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294C-FDB8-41CE-836F-6999472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0E4A-6106-46E1-A59D-7226D55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A312-2A3B-4628-BDDE-EEB9238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C7CD-752C-4993-B5B5-9710FB78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9846-D6B7-42FF-902B-B3E22834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99AE-1CD3-4899-8ABA-8A33B19F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E4A-BA87-4B7E-B5AA-54D98C6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ECAF-4C37-4A00-AF94-76E71B7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B868-B7B9-4186-9930-E584C595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F543-606C-428D-95A9-2F8257E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2083-F941-4F3A-8894-7F56011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A9DF-FEAD-4C25-83C4-8E8CD6D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1137-8241-45ED-AD4B-89FE996B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EAE0-5C09-4334-8EAD-2418FE7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B809-2852-490D-AFC4-E5A7FCA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F7D2-5E89-4EBD-B3EE-386AF43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CB5B4-86D1-41D3-A6EA-C5A8721B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50E-DB04-4DB6-A109-4C111B4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96DDC-DD83-4215-967D-23BBD320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F6E3A-EDBF-4777-843D-193D2A23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5EF0-D926-4C39-B413-31DA365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7D7A-F2FE-4409-905C-065D3E6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58BE-0818-4C1C-AA2D-DFF62102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F83F-3DA5-4108-AB0D-51DA3C2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53E3C-C72F-4DAB-AFEC-9763A25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156D-DFAC-4D51-8E19-08BCD5B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D517A-5596-4560-824F-51E447C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2846-AB94-4906-87C7-0782BA3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041-82CC-42D8-96A1-CEDBFFD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6C04-7986-4079-A838-465ACC8E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5405-9CD8-4C77-93C7-5BDCF7EA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884C-3B8D-42F7-9A81-9792D279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776F-18AF-4106-B39E-BA7CED3D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CF9B-FC5F-496B-8B94-C2D314C0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6E63-E3B1-4CD0-A5AA-CA6C006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B0F4-DC1A-4FB6-9AA3-F2F4C0F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1CCB-275D-4CB5-857B-46EADA2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EB43-B194-4B68-83E9-EDF1F60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CB80-151C-438D-9591-89066D6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A62-82A0-45A0-88A7-8A839CE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AAA8-D4FA-4DC3-9777-83E25F0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AA1F-3C29-4158-80DE-377FA7C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9EAB-36C3-42CE-97CE-12C38DE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43499-2675-4C7F-8637-CDC51A38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8D2A-69A3-4C19-819E-7D9275A5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EA7F-2B58-4362-9C14-DE0A69A5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0FEDB-0620-4E61-98E5-9517FCF8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280F9-30F5-46BE-B421-B3AB8F6C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6B25-921C-43EC-B2F4-006A1C1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206B-CBD7-4940-B7EA-B2CE348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DD2-7857-418E-9341-A67FBC9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1398-6BCA-404F-A1D9-5FA8AC90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0D57-89AF-4316-B134-7A57561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82F7D-CF7E-499B-808E-EC43A98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319EA-92A1-49BC-8800-A476619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C20B-F8C5-4D27-AF16-FA88AD7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2615-FF1B-49D1-93F4-7893DA0D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013A-3D1F-4F12-A58B-FD601866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34D6-E165-467A-8A95-15882C56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8CF8F-4E2C-43A4-86C7-B1B9DD8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150F-9180-4A43-BADF-D02056B1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5A1-3498-48F5-A65B-79AFF7F105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0D9-C768-4205-ACD8-60684CB46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533C-2010-4EC1-80E3-422D80844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1429-A9F1-4E43-87B7-C90CA59DD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7F9B-3151-46CB-A05D-19869F667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433-2FD7-4C8A-850A-F75ABBE08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68F-47DC-46BF-B48A-67724B4D8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E87-653D-4271-BDFC-0DD82AFC0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DEFB-0C72-4C6E-A6D4-140AD41B2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EB5-9156-41AD-8762-E52E580F3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585-A28B-4077-917F-93033974C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253-950C-4DB6-B477-28C086F45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2D7-EAF7-49DC-B91F-D809B4012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222-5AD4-4ADD-B104-74D24FBB4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2C2-80AE-48A6-8F32-A7154EA60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AAFA-0FE2-457F-9C44-726D464B0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B1C-1114-406A-B3D3-5A0BB2494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3AE-F71C-4A31-B193-69D4899FD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194-73C3-409D-A7B4-641BB72B5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C51D-B809-40DF-83FF-D770C7583C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BB7-2589-4736-9FD6-59D08FF70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E3F7-3F1C-422A-85C6-8F06C612F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432-EE7A-4E00-8D1C-8FF699A0DA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303-B2F5-4AF8-A025-646B372A0A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FA3-A77E-414F-8CDE-BC142ACEA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D2B-57DF-49AC-9A88-97EC8E9AF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9A77-AF54-4BFE-83C9-007B35941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AF60-A6A4-4E67-B596-7429E4A1EF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AFA-770D-47EA-AD1E-4C2D5DAF4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2CF4-D019-4D18-AE0E-F73BEE59D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2C9C-6A17-46D9-B0FA-283B80F65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4DE-A7A3-48F9-BDC1-7DA9A33B0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06B-A8A1-4F1F-8703-D2A303AC1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B58C-3746-4FA8-9467-B51C3888B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E866-7D75-4DD8-BD92-4CCC2AC2B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AFA-558E-4AF3-8E59-A630B8BB4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7FE-532A-4C2C-A07F-515B1368E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A3E-72DE-4139-8060-C2CE1EC30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275-669D-45F4-BA19-CE8BC0CA4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994-792F-4530-8230-266547275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14600" y="3067200"/>
            <a:ext cx="23148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90360" y="990720"/>
            <a:ext cx="8963280" cy="487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101080" y="1989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717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835280" y="3817800"/>
            <a:ext cx="1296720" cy="1871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797120" y="3500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492360" y="3808440"/>
            <a:ext cx="1152720" cy="1871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788000" y="3860640"/>
            <a:ext cx="1296720" cy="1944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427640" y="3500280"/>
            <a:ext cx="100800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300720" y="3860640"/>
            <a:ext cx="1152720" cy="1872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596360" y="3789360"/>
            <a:ext cx="1296720" cy="1944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273800" y="3490920"/>
            <a:ext cx="1008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833400" y="2828880"/>
            <a:ext cx="7477200" cy="1200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384720" cy="301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003640" y="3303720"/>
            <a:ext cx="338472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185760" y="692280"/>
            <a:ext cx="8772480" cy="5991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067280" y="163836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067280" y="193500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067280" y="222408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986280" y="2521080"/>
            <a:ext cx="3673440" cy="30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8379" descr=""/>
          <p:cNvPicPr/>
          <p:nvPr/>
        </p:nvPicPr>
        <p:blipFill>
          <a:blip r:embed="rId7"/>
          <a:stretch/>
        </p:blipFill>
        <p:spPr>
          <a:xfrm>
            <a:off x="744480" y="3747960"/>
            <a:ext cx="1600200" cy="28958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8380" descr=""/>
          <p:cNvPicPr/>
          <p:nvPr/>
        </p:nvPicPr>
        <p:blipFill>
          <a:blip r:embed="rId8"/>
          <a:stretch/>
        </p:blipFill>
        <p:spPr>
          <a:xfrm>
            <a:off x="4095720" y="3795840"/>
            <a:ext cx="1562040" cy="2200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8566200" y="335772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8585280" y="3789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1"/>
          <a:stretch/>
        </p:blipFill>
        <p:spPr>
          <a:xfrm>
            <a:off x="8585280" y="41688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2"/>
          <a:stretch/>
        </p:blipFill>
        <p:spPr>
          <a:xfrm>
            <a:off x="8594640" y="454644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3"/>
          <a:stretch/>
        </p:blipFill>
        <p:spPr>
          <a:xfrm>
            <a:off x="8585280" y="49514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4"/>
          <a:stretch/>
        </p:blipFill>
        <p:spPr>
          <a:xfrm>
            <a:off x="8575560" y="53737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5"/>
          <a:stretch/>
        </p:blipFill>
        <p:spPr>
          <a:xfrm>
            <a:off x="8532720" y="57769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6"/>
          <a:stretch/>
        </p:blipFill>
        <p:spPr>
          <a:xfrm>
            <a:off x="8532720" y="6180120"/>
            <a:ext cx="43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15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